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2640" y="4552200"/>
            <a:ext cx="87454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23920" y="218232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2640" y="455220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23920" y="455220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2815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99680" y="2182320"/>
            <a:ext cx="2815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56720" y="2182320"/>
            <a:ext cx="2815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2640" y="4552200"/>
            <a:ext cx="2815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99680" y="4552200"/>
            <a:ext cx="2815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56720" y="4552200"/>
            <a:ext cx="2815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426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23920" y="2182320"/>
            <a:ext cx="426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88218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23920" y="2182320"/>
            <a:ext cx="426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2640" y="455220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426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23920" y="218232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23920" y="455220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23920" y="2182320"/>
            <a:ext cx="4267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2640" y="4552200"/>
            <a:ext cx="87454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63800" y="1670040"/>
            <a:ext cx="8724600" cy="30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606760" y="5751360"/>
            <a:ext cx="4032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17720" y="6668640"/>
            <a:ext cx="655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4b4b4"/>
                </a:solidFill>
                <a:latin typeface="Arial"/>
              </a:rPr>
              <a:t>Reshape your world, Use Notes to the full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75880" y="6932520"/>
            <a:ext cx="149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Power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Bundled-Know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00160" y="131760"/>
            <a:ext cx="3423960" cy="890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1981080"/>
            <a:ext cx="762120" cy="4135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4965840" y="198360"/>
            <a:ext cx="476244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1720" y="2347920"/>
            <a:ext cx="908856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ng “WYSIWYG” web edito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o Notes/Domino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03440" y="4282560"/>
            <a:ext cx="748512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do it, and how to do it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E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area – now unsupported, was very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nha – successor to html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nyMCE – Lightweight alter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Keditor – Probably the top contender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, many others with niche markets or speci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rcial E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WebEdit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n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Live!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ver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Kedi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in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either div or textarea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izable tool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ource JavaScript - can be modifi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Keditor – Creat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v around rich tex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nerHTML property to feed to FCK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KB limit on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“Create” method in FCK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the same as textarea replacement, but less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Keditor – Textarea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e id is set to field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he HTML from field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must be set to passthru to display prope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“ReplaceTextarea”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lexible with few lim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s, links, etc. will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Keditor – Adding to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FCKeditor JavaScript in HTML hea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id for rich tex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onLoad logic to trigg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 the toolb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WQS agent to reset passthru HTML at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P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98800" y="2408400"/>
            <a:ext cx="3668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Features -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web base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mileys and other emoti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cal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ze images or set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onsiderations -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images are actually stored in sepa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images may be less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image does not delete separat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ed databases require FCKeditor even for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 copies require identical file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Features - Doc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 code to create doc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 view to select doc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extend to other d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 text may be set on doclink to identify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: Ben Langhinric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- Genii Software L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in 1992 (OS/2 util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otes product in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/Lotus Business Partner since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in Cleveland, Ohio, U.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s in 46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 - The Penumbr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considerations - Doc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pecial properties box for doclinks (just an image with li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 copies require identical file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Feature – File Attach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can be uploaded without upload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can be uploaded without sub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files can be uploaded where you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cial considerations – File Attach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pecial properties box for attac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clip image and link text can be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“attachments” are actually stored in sepa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attachments may be less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attachment  does not delete separat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 copies require identical file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: FCKeditor with Dom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41600" y="2560680"/>
            <a:ext cx="29671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rich text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rimarily the same as 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require smaller toolb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modification of WQS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: FCKeditor with Dom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41600" y="2560680"/>
            <a:ext cx="29671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, what is miss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edit from No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s and attachments in sourc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: CoexEd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41600" y="2560680"/>
            <a:ext cx="29671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9640" y="2103480"/>
            <a:ext cx="153504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4040" y="21798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iiSoft.com – CoexEdit, CoexLinks and Midas Rich Text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GeniiSoft.com/showcase.nsf/GeniiBlog – Tips, tricks (and Mike Midas to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 forums (ND6/7 and R4/R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weblo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otusGeek.com (Notes and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lanLepofsky.net (Cool t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dBrill.com (IBM persp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: Are we done y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55800" y="2789280"/>
            <a:ext cx="3800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ii Software – Current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Edit: Notes/Web editing 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Links: Notes/Outlook e-mail 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 Text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as Rich Text LS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as Rich Text C++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Midas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ing rich text in Notes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“richness” with menu items, properties and keyboard short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ly insert tables, images and file attac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line file attachments are powerful fe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doclinks, link hotspots and URL hot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colors, fonts and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s through style pi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CSS control added in ND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diting rich text in Web (with Domi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1 – “Using HTM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text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ormatting, images, tables, links, etc.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bility to add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result is rich text, but very plain rich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diting rich text in Web (with Domi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2 – “Using Java appl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pplet fairly heavy and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fidelity remains, but images and doclink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 are displayed as tags, very hard to ma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formatting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mport of images, file attachments or doc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diting rich text in Web (with Domi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3 – “Using Best Fit for 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Internet Explorer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tty good fidelity, but images and doclinks still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 are displayed well, but messed up on s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formatting works, plus some advan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mport of images, file attachments or doc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YSIWYG E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See Is What You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/XHTML underneath, rich text on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editing capabilities in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8821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ditable Area -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2182320"/>
            <a:ext cx="8745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extarea&gt;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Script &lt;div&gt;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1:49:17Z</dcterms:created>
  <dc:creator>Ben Langhinrichs</dc:creator>
  <dc:description/>
  <dc:language>en-US</dc:language>
  <cp:lastModifiedBy>Ben Langhinrichs</cp:lastModifiedBy>
  <dcterms:modified xsi:type="dcterms:W3CDTF">2006-02-20T02:32:49Z</dcterms:modified>
  <cp:revision>22</cp:revision>
  <dc:subject/>
  <dc:title>Slide 1</dc:title>
</cp:coreProperties>
</file>